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C06-2D01-4B4F-AB22-1DC210B5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123-2978-4EFF-948B-C1A31282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D2C-DD37-4D32-B13D-F943B1FC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0E0-D926-4FD6-8D4C-B691E3AE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6B5-0651-488A-88AB-4FEFA0C7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0D0-77B9-4D20-9D7A-7C35ED6C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6A6-E77D-4572-97CE-419E35A5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C44-946C-439B-BA3C-F04CAB51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BDC-2E81-46CB-AD8F-19F79027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0CD-78BA-4980-A514-68C9D575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B42-562F-4676-83B3-289D73D4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308-E836-4B57-8113-5251B11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84A1-A56D-4CDD-A1F9-B39391561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611280" y="1052640"/>
            <a:ext cx="79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 в зеленом мире э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зимой и ле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летает мотыльк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рым бегает зверь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ках кружиться птиц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строй бегает куниц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повсюду, жизнь вокру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природе – друг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Экологический проек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3640" y="400536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логия - это мы. Заботясь о чистоте окружающей среды, мы заботимся о здоровье человека, всего живого на планете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грязнение окружающей среды мусо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грязнение вод Мирового оке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52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8920" y="11970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означить пробл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явить 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явления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 Выдвинуть решение данной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788000" y="260280"/>
            <a:ext cx="43560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логическая 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з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и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оссворд и т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низ 4"/>
          <p:cNvSpPr/>
          <p:nvPr/>
        </p:nvSpPr>
        <p:spPr>
          <a:xfrm rot="9797400">
            <a:off x="3428280" y="4565160"/>
            <a:ext cx="484200" cy="630360"/>
          </a:xfrm>
          <a:prstGeom prst="down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92d050"/>
              </a:gs>
              <a:gs pos="100000">
                <a:srgbClr val="b8e3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низ 5"/>
          <p:cNvSpPr/>
          <p:nvPr/>
        </p:nvSpPr>
        <p:spPr>
          <a:xfrm rot="14266200">
            <a:off x="4078080" y="1326600"/>
            <a:ext cx="484200" cy="630000"/>
          </a:xfrm>
          <a:prstGeom prst="downArrow">
            <a:avLst>
              <a:gd name="adj1" fmla="val 50000"/>
              <a:gd name="adj2" fmla="val 49978"/>
            </a:avLst>
          </a:prstGeom>
          <a:gradFill rotWithShape="0">
            <a:gsLst>
              <a:gs pos="0">
                <a:srgbClr val="92d050"/>
              </a:gs>
              <a:gs pos="100000">
                <a:srgbClr val="b8e3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11235" t="18681" r="6762" b="13282"/>
          <a:stretch/>
        </p:blipFill>
        <p:spPr>
          <a:xfrm>
            <a:off x="7128000" y="4548240"/>
            <a:ext cx="20160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36720" y="2060640"/>
            <a:ext cx="6407280" cy="4797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Оценка результа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иги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ие за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проду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на поставлен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сех участников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Мы должны знать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468360" y="907920"/>
            <a:ext cx="8675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6 сентябр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Международный день охраны        озонового слоя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 сентябр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День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7 сентябр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День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 октябр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День защиты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9 декабр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День биологического разнообр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2 мар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Всемирный день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апре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День п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8-22 апреля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ни заповедников и национальных пар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2 апре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День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День охраны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7 июн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День борьбы с опустыниванием и засух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rcRect l="0" t="0" r="0" b="7546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465264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Я сорвала цветок – и он увял. Я поймала мотылька – и он умер у меня на ладони. И тогда я поняла, что прикоснуться к природе можно только сердц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.Л. Прас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5:46:55Z</dcterms:created>
  <dc:creator>Admin</dc:creator>
  <dc:description/>
  <dc:language>en-US</dc:language>
  <cp:lastModifiedBy>Сережа</cp:lastModifiedBy>
  <dcterms:modified xsi:type="dcterms:W3CDTF">2021-10-13T14:56:47Z</dcterms:modified>
  <cp:revision>8</cp:revision>
  <dc:subject/>
  <dc:title>Слайд 1</dc:title>
</cp:coreProperties>
</file>